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2875-1BBB-4F56-8A17-C90F98BF31C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707-D149-4FAF-A163-0BE3E73ECEC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C35-8812-4E87-8484-B3023DCAB97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3B9-A5E3-426C-95E9-F8F8426AF69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122-D770-4B9A-ADEB-50C584504C8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E716-A1A9-45B3-B513-0AB9D8B6AAB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2A6-DC4B-40D7-B037-BFE81790537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7B3A-CB74-44E0-88F3-982926B6C0F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72F-5635-40B8-9CE3-2549A46EE0B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7B0-020B-4EE2-9961-D7C7C35DBEA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0E8-551A-4E57-B32B-B2AC9E91EC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E0C-64B8-4CB7-833A-5D4976BD1AA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FF1-BD08-4D16-996D-395B83993F2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50E-C60C-4542-BF9D-0BFB30C1815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4B9E-E960-41C4-B934-BAFB7FD1BB5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D2A-E659-4240-B4C9-95101585E5B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1BA-7CF6-4692-9517-7AE089BC7C9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461-5258-4127-BE5E-FE659E7C889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28E-232C-43F2-A1B5-B566BAA9D26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50D-2A04-4906-AFDF-E479445E2AE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CADD-14E1-428C-9C56-61A2CC62727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BD4-AE18-435A-8ACD-63D2317AE75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647-2A0F-48D4-BFB8-C0D98E2D848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A4E-0456-4C98-9D68-AE90FA5E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DD4-168D-47C4-B73F-7480DE9C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F26-148B-4C50-9ADA-4133A95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BAA-C5E0-4D4A-BCF7-2C15665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6C0-C714-4551-98CB-771C788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394-9B63-4BB4-964D-5D7C370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8C2-1792-49EF-9BA1-599DE91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C97-CA1E-4651-9C72-ACA90D7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42A-3DCC-4975-981A-8B1B429A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071-2CF4-4DC7-96FC-F81D0DA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8E6-A19A-42B2-BB3B-4140250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464-8513-4A12-A262-70CF56A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213F-D5AD-403C-A993-485D79045B2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tab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yter 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1 : 2009/07/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2 : 2009/08/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3 : 2009/08/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4: 2009/12/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 -v -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 26688 packets, 4100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 25042 packets, 4019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60 12638 IP_FILTER  all  --  *      *     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0     0 RETURN     all  --  any    any     192.168.10.0/24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429  129K RETURN     all  --  any    any     192.168.1.0/24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591 75007 DROP       all  --  any    any     anywhere      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s chang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PORT_STREAM, PORT_SEARC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e aware not to invoke DefaultRules.sh when PORT_HTTP and PORT_HTTPS is chang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DefaultRules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DefaultRules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字方塊 3"/>
          <p:cNvSpPr/>
          <p:nvPr/>
        </p:nvSpPr>
        <p:spPr>
          <a:xfrm>
            <a:off x="1071720" y="211932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TCP_PORTS=80,443,6001,6002,7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UDP_PORTS=6005,6006,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內容版面配置區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405468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drop port scan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MAP FIN/URG/PS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FIN,URG,PSH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ALL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Another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SYN,RST,ACK,FIN,URG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ull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NONE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R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RST SYN,RST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FIN --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FIN SYN,FIN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i lo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ESTABLISHED,RELATED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Web server is running on port 80,443,6001,6002,707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TC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0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1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UD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ud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Being specific about who we allow to use ssh from the local subne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CAL_SUBNET=`ip addr show eth0|grep "inet "|sed "s/  */ /g"|cut -d ' ' -f 3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NEW -s $LOCAL_SUBNET  -p tcp --dport 22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雲朵形圖說文字 5"/>
          <p:cNvSpPr/>
          <p:nvPr/>
        </p:nvSpPr>
        <p:spPr>
          <a:xfrm>
            <a:off x="7286760" y="3571920"/>
            <a:ext cx="1571400" cy="642960"/>
          </a:xfrm>
          <a:prstGeom prst="cloudCallout">
            <a:avLst>
              <a:gd name="adj1" fmla="val -66013"/>
              <a:gd name="adj2" fmla="val 337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ased on FTP_SERVER URL Comm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usr/sbin $ date;DefaultRules.sh ;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6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7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雲朵形圖說文字 3"/>
          <p:cNvSpPr/>
          <p:nvPr/>
        </p:nvSpPr>
        <p:spPr>
          <a:xfrm>
            <a:off x="3071880" y="2071800"/>
            <a:ext cx="2286000" cy="1071360"/>
          </a:xfrm>
          <a:prstGeom prst="cloudCallout">
            <a:avLst>
              <a:gd name="adj1" fmla="val -55726"/>
              <a:gd name="adj2" fmla="val -328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ly 1 second is oke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oid DefaultRulesInit (voi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d = fopen ("/etc/DefaultRules.conf", "w+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TC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s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CONTROL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TREAM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RTSP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UD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EARCH1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SEARCH2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y_system ("/usr/sbin/DefaultRules.sh", 0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y PORT related URL changed will trigger this script, except PORT_HTT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{"PORT_SEARCH_1", {"PORT_SEARCH1", ""}, 0x07, 0x04, 0x00, 'R', 1, 65535, NULL, url_common, NULL, 0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       EXECUTE_SYSTEM_SEARCH_PORT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       EXECUTE_SYSTEM_SEARCH_PORT</a:t>
            </a: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E_SYSTEM_DEFAULT_RULES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82 packets, 15414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43733 packets, 52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33480" y="2262240"/>
            <a:ext cx="54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_FILTER_RULE 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52 packets, 8565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16  491K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5  696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7  6096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   192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   144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    48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  1516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  102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17458 packets, 20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76 13248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f any conflict with existed iptables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雲朵形圖說文字 3"/>
          <p:cNvSpPr/>
          <p:nvPr/>
        </p:nvSpPr>
        <p:spPr>
          <a:xfrm>
            <a:off x="2214720" y="2500200"/>
            <a:ext cx="2857320" cy="1643040"/>
          </a:xfrm>
          <a:prstGeom prst="cloudCallout">
            <a:avLst>
              <a:gd name="adj1" fmla="val -56236"/>
              <a:gd name="adj2" fmla="val -446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L had TOS rules on OUTPU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eck the following pa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&lt;http://172.16.5.24/svn/repos/CommonLibs/Firewall/INSTAL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IpFilter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字方塊 3"/>
          <p:cNvSpPr/>
          <p:nvPr/>
        </p:nvSpPr>
        <p:spPr>
          <a:xfrm>
            <a:off x="1071720" y="2119320"/>
            <a:ext cx="507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TYPE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P_FILTER_RULE=“1,0,172.16.3.72,32,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7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8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9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0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1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雲朵形圖說文字 4"/>
          <p:cNvSpPr/>
          <p:nvPr/>
        </p:nvSpPr>
        <p:spPr>
          <a:xfrm>
            <a:off x="5357880" y="4071960"/>
            <a:ext cx="2286000" cy="857160"/>
          </a:xfrm>
          <a:prstGeom prst="cloudCallout">
            <a:avLst>
              <a:gd name="adj1" fmla="val -45087"/>
              <a:gd name="adj2" fmla="val -645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　代表空格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!/bin/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/etc/IpFilter.con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TABLES="/sbin/iptables -t mangle 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Checking if there is a existed IP_FILT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L IP_FILTER &gt; /dev/null 2&gt;&amp;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?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N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NPUT -j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STATE = "0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t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for RULE in $IP_FILTER_RULE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T=`echo -n $RULE|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cut -d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',' -f 2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=`echo -n $RULE|cut -d ',' -f 3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SK=`echo -n $RULE|cut -d ',' -f 4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STAT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 means matched need to be pa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RETUR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he not matched rest's need to be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if TYPE:0 Deny means those packets matched is need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to be DROP, otherwise will return to the call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(ACCEPT and continueing on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雲朵形圖說文字 5"/>
          <p:cNvSpPr/>
          <p:nvPr/>
        </p:nvSpPr>
        <p:spPr>
          <a:xfrm>
            <a:off x="5572080" y="1143000"/>
            <a:ext cx="2071800" cy="357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eparated wuth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雲朵形圖說文字 6"/>
          <p:cNvSpPr/>
          <p:nvPr/>
        </p:nvSpPr>
        <p:spPr>
          <a:xfrm>
            <a:off x="7786800" y="1785960"/>
            <a:ext cx="1357200" cy="357120"/>
          </a:xfrm>
          <a:prstGeom prst="cloudCallout">
            <a:avLst>
              <a:gd name="adj1" fmla="val -71000"/>
              <a:gd name="adj2" fmla="val 24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.E.T. all supports ‘cu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usr/sbin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1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3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(still needs 2 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lt 10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val NAME=$IP_FILTER_RULE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let i=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NDEX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STAT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P=172.16.3.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MASK=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eq 1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oid IpFilterInit (vo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t i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d = fopen ("/etc/IpFilter.conf", "w+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STATE=%s\n", nvram_safe_get("IP_FILTER_STAT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TYPE=%s\n", nvram_safe_get("IP_FILTER_TYP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RULE=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\"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(i=1; i&lt;=16; i++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%s</a:t>
            </a:r>
            <a:r>
              <a:rPr b="0" lang="en-US" sz="13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, nvram_safe_getf ("IP_FILTER_RULE%02d", i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"\"\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y_system ("/usr/sbin/IpFilter.sh", 0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雲朵形圖說文字 3"/>
          <p:cNvSpPr/>
          <p:nvPr/>
        </p:nvSpPr>
        <p:spPr>
          <a:xfrm>
            <a:off x="3643200" y="3857760"/>
            <a:ext cx="3929040" cy="285480"/>
          </a:xfrm>
          <a:prstGeom prst="cloudCallout">
            <a:avLst>
              <a:gd name="adj1" fmla="val -66282"/>
              <a:gd name="adj2" fmla="val -3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ell script need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/config/update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'1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'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,1,172.16.3.82,32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7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8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9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0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1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 $ cat /etc/IpFilter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"1,1,192.168.10.1,24, 2,1,192.168.1.1,24, 3,0,0.0.0.0,0, 4,0,0.0.0.0,0, 5,0,0.0.0.0,0, 6,0,0.0.0.0,0, 7,0,0.0.0.0,0, 8,0,0.0.0.0,0, 9,0,0.0.0.0,0, 10,0,0.0.0.0,0, 11,0,0.0.0.0,0, 12,0,0.0.0.0,0, 13,0,0.0.0.0,0, 14,0,0.0.0.0,0, 15,0,0.0.0.0,0, 16,0,0.0.0.0,0, 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P_FILTER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0.0/24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.0/24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ROP     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0:55:34Z</dcterms:created>
  <dc:creator>ACTi All Users</dc:creator>
  <dc:description/>
  <dc:language>en-US</dc:language>
  <cp:lastModifiedBy>ACTi All Users</cp:lastModifiedBy>
  <dcterms:modified xsi:type="dcterms:W3CDTF">2010-01-27T09:58:25Z</dcterms:modified>
  <cp:revision>52</cp:revision>
  <dc:subject/>
  <dc:title>Iptables </dc:title>
</cp:coreProperties>
</file>